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3062-7820-44E1-AE95-B25376783F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39D6-07D0-4A72-B072-DF82B59B30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СНОВНЫЕ</a:t>
            </a:r>
            <a:r>
              <a:rPr b="1" i="1" lang="ru-RU" sz="20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3366"/>
                </a:solidFill>
                <a:latin typeface="Calibri"/>
              </a:rPr>
              <a:t>ОТРАСЛИ ПСИХОЛОГИИ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79E3-109F-48B2-AE7E-AB9C2D0C9E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ческ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5CF-A0D0-4FD4-8FC7-386244647B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етоды психолог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A0DD-14F9-4032-B247-06FB74D132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Определение педагог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(от греческих слов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дитя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, в дословном переводе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айдагог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означает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етоводитель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7074-3A45-4773-A359-980CD8A832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др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мужчина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гоги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(от греч.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нтропос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человек и «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го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» - ве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4D01-B707-468E-A879-762294D482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и педагог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сихологи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мет, объект и методы психологии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сто психологии в системе наук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личность, субъект, индивидуальность. Психика и организм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и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новные психические проц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личностные отношения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сихология малых групп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групповые отнош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19A4-B975-406C-BBAE-89223D94D9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озникновение и развитие педагогики, ее представител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же в наиболее развитых государствах древнего мира –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ита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Инд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Египт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Грец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философии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; и в ней же были сделаны первые педагогические обобщ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FBF5-7A6A-4102-9387-82250061F5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лыбелью европейских систем воспитания стала древнегреческая философия:</a:t>
            </a:r>
            <a:br>
              <a:rPr sz="1200"/>
            </a:b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емокрит (460 – 370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крат (469 – з99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латон (427 – 347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ристотель (384 – 322 гг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арк Квинтилиан (35 -9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BD0D-65EF-48AF-A44A-51784A3D16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ртулиан (160 – 22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густин (354 -43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квинат (1225 – 127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AA4D-53A0-4B53-ABA6-DB91331F1B0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Я – человек, и ничто человеческое мне не чуждо». – лозунг Эпохи Возро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разм Роттердамский (1466 – 153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итторино де Фельтрэ (1378 – 1446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ранссуа Рабле (1494 -155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Ян Амос Коменский (1592 1670 гг.)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делил педагогику из философии и оформил ее в научную систему!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жон Локк (1632 – 170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. Дидро (1713 – 178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. Гильвеций (1715 -177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. Гольбах (1723 – 17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Ж.Ж. Руссо (1712 – 1778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D67F-0A91-465D-9E19-371732C357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редставители русской педагогической мысл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. Белинский (1811 -1848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И. Герцен (1812 – 187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Г. Чернышевский (1828 – 188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А. Добролюбов (1836 -186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Н. Толстой (1828 – 191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Д. Ушинский (1824 – 1871 г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8476-7211-451C-ACB4-0CC1AB0D0D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IX -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начале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ьюи (1859 – 1952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двард Торндайк (1874 – 1949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EB76-2B66-4235-9101-A0488D2F4C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общие осн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идактика (теория обуч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теория воспи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зрастная педагог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дошкольная педагог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шко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     Педагогика высшей: школы занимается педагогическими проблемами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F1AB-F6F6-4FA1-8666-D30062865B5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7b9899"/>
                </a:solidFill>
                <a:latin typeface="Calibri"/>
              </a:rPr>
              <a:t>Система педагогических нау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Социальная педагогика: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семейная педагогика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перевоспитание правонарушителей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- и др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Сурдопедагогика – воспитание глухонемых и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. Тифлопедагогика – воспитание слепых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7. Олигофренопедагогика – Воспитание умственно отсталых.</a:t>
            </a:r>
            <a:br>
              <a:rPr sz="1200"/>
            </a:b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676A-59D4-4FC8-9855-25B2EEEE8C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Педагогика развивается в тесной связи с другими наукам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. Философские нау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эсте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наук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 Анато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. Физ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. 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. История, литература, медицина, экология, экономика, археология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CEEF-3529-400B-89EE-CD67A471EB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ВЫПИСКА ИЗ СТАНДАРТ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ект, предмет, задачи, функции, методы педагогик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 педагог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дагогически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ие формы организации учебной деят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, приемы, средства организации и управления педагогическим процессо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тельными 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16E6-5D6C-48EC-8211-F625D59782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100"/>
            </a:br>
            <a:br>
              <a:rPr sz="11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F3C2-56E3-4040-A203-6242CA2B4F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едагог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4F5D-FAAE-4DF5-A2E5-AED2CC1468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сновные категории педагог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390C-668A-430C-837C-BCD88F9596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атегории педагог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A8C4-D4C5-4120-8752-BC22FB6E6A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бучен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4EF7-575D-4826-8F4E-06CE4E2A70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я - это отражения человеком объективной  деятельности в форме фактов, представлений, по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ния – это готовность сознательно 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ыки – это компоненты практической деятельности  проявляющееся при  выполнении необходим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1057-12A1-42D4-9405-EAE8636995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Образование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объем систематизированных  знаний, умений, навыков, которыми овладел обучаем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PS: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FFEB-96E4-41A3-B1E3-6CCC993E28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целенаправленный и организационный процесс формирования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 воспита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0EE4-C572-4EEE-885C-8BC010CE84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b9899"/>
                </a:solidFill>
                <a:latin typeface="Calibri"/>
              </a:rPr>
              <a:t>Формиров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7A73-C24E-4727-A1AA-D20F93513B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b9899"/>
                </a:solidFill>
                <a:latin typeface="Calibri"/>
              </a:rPr>
              <a:t>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оцесс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7AE8-AE7D-405B-AD9B-375290DEDA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СИХОЛОГИЯ И ПЕДАГОГИК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d0a10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0ACA-43D1-4E96-9F13-A223D5AD0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Методы педагогик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ая бесе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школьной документации и продуктов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 обобщение передового педагогического оп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D673-C835-4B74-AE7E-FA29B25D41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едагогический эксперимен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имеющихся целей различают следующие виды эксперимен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атир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идательно-преобразующ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0EC6-963C-425A-AAAB-7921CBB20A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b9899"/>
                </a:solidFill>
                <a:latin typeface="Calibri"/>
              </a:rPr>
              <a:t>Словарь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Развит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1CE6-D6CB-49B4-BC4C-457E31E0E0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кция оконч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0214-2E23-49C9-91A8-7BB35D5D95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Calibri"/>
              </a:rPr>
              <a:t>ПСИХ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 (греч.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ψυχη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а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ог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DA80-509C-440F-B88A-C5C1A7F094F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Л. Рубинштей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D100-C4F0-435D-8D9D-44496291C0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b9899"/>
                </a:solidFill>
                <a:latin typeface="Calibri"/>
              </a:rPr>
              <a:t>Псих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A176-28DD-4E4D-9E49-059EE8D64F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ъект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5EE8-0D43-421C-8C89-36D60992AF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C34-F581-473C-B12B-6BD9A472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F53E-54B7-4F49-8492-C5E5D2DE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D4B12-7C69-4BA5-BF8A-28ADFE0C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C2C06F-3161-48AF-B8F1-E0F6E0A3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2F46B-C5EC-49B6-8AFA-8C5ABA9C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FB00B-0A9D-486F-8016-D23A337C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1E724-3133-4DB6-91C1-7843042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4E8F9F-03FA-43C8-849B-428F4A30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2CEBBB-43B3-4CC0-800F-499D4727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64CF7-984F-42A3-995B-8FE6E1AA7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D93A9B-B8B6-48D4-AEFD-E8EDEE7C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DCDD9B-2F3E-4DC6-A4A5-61E18928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9EC-4FBA-4817-BF9D-53B05032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E56B52-4247-4F31-99F9-3AA90A4B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F4EC7-48AB-4518-8B43-E111E830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F25BDA-55E9-4650-BE7B-AACDBE9C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4F401-3824-43B7-9FB9-502C8C59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1982D-FE43-4308-BDF4-952D8D4B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79D7AF-23F5-41D3-BDEB-A3E0F07B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59EDA-4EBB-46A9-AEA8-86C7C36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8059C-327F-4235-860D-2A652A26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51E4B4-2FE1-45C9-97BF-C5F3677B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1C3AD-0B82-4742-959A-87CC6E7F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B55C-5C45-4464-884F-93DA22CF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2D067-10B8-48F1-9FD3-879DFDE5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932F1-EF4A-4F5E-8304-6DF8A48A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F4BB7-6EF7-4C28-9191-FE598955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5CB11-DA6E-488D-9F57-AB0E5CA2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278EA-6188-4DD3-9426-225FB0A2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EC3C2-BA8B-4A8A-8A18-B1492100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CA22D-DFF5-4671-BF3E-FF504153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5F663-027C-4CBB-B010-0C9E1FEF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9DCBD-2BED-4FD4-BC3D-C70B991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0AD65-77E5-4E63-9523-82CF0B73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B371-7ECE-460B-A2CD-4BAE31A5D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FC9C1-37F6-4A23-8A41-BF847C6D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8FDEB0-0026-4B18-9904-2EFB153E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6C1F17-7532-4681-94E3-E90ADB07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51B44-2D9D-4CE8-87BC-1BA58B9B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921E66-6D3C-4FB3-8C09-003A9BF7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F2F43B-EF42-4B05-8D2C-8FEAB435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CD35FF-5B0B-4AB1-AFD1-69899210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73118-1C9D-407C-9D56-4127E35F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48F92-21B6-4D67-B1CF-808B10EF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54CEC6-C767-47A5-A665-A8B8B169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528A-1B0A-4FB0-8D66-DCF5368C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39DDC-288F-4605-994C-B692C962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88C66F-EB2D-4D12-A7D1-DD87684B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B1CCA5-5BD0-47EA-8881-94B55854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AFADDC-B9C1-4E7A-8B5E-DA842511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579C9-94E5-41D7-84EF-4342CBCD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3C5B0B-D181-4056-91D7-82BF7361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A52805-10D9-4715-B496-096F0886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0B39C18-E53D-43BA-80BF-79B961DA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523B2C-5640-46AC-A171-30E777FB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2209FF-83BC-44ED-AD97-D4BDE8AF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016C-BE02-40C1-887F-5C2D5382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8563376-7E2F-4694-A331-7E1424F9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9851910-D3F4-4675-A629-92A6C297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265B75-C46D-4D9E-84DB-B57E2C0A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25640E-F9D6-4E74-BC6A-4333DDB9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0B55B6-ED6A-46B7-9BBC-BD039CE7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C68933-C9B3-4666-954D-53334D38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CD97C9-B634-4E90-8768-77DD7A32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D811F-1B75-464B-BB0F-519C4FA2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7A289-0F8B-4BFD-9BD6-6524F5CD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3F99C-A712-43DF-B5FA-753E4FF4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34B0-20B3-4513-97AB-DC06714B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C5A20-4BF2-477A-93C2-ABAF352E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C6B24-9345-425F-87C5-3E83C1B0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23744-6759-44AD-B988-479E8EA0B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21B2C-501B-423E-8846-EF109E0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9551C-28D1-4CFC-A498-31E2C5D1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FAAB65-A75B-40EC-B580-BD72118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9317F-7C6E-4485-B853-67CD784B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C7CCD-91BA-481B-A299-2A8E1404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A69B3-D2F8-4342-9644-1B3E0A3B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522B-7789-48A3-8226-4AB23B18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6845-4473-4BD0-850E-0B8911B7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7A54-39AB-4FB5-9CC5-2C31CAFB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141-8747-4753-9EE7-FE635B5D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EFD6-EB61-4DF1-8668-249FF805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2BAE-1BEB-4BA1-8753-40EFBF96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8E7A-5BB0-4CE1-95E3-91BA218E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8176-496E-456F-99CE-82541974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1D8C-CEFD-48C6-B4B0-A7FC53FD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684E-35FE-4972-9FE1-5EB306082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4BAC-D648-4572-8A92-9F94839E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3F7FD-9531-427A-9019-5B9EDA6F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9CF2D-B007-4629-BD86-2EF42555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4892-23CA-477B-8B97-439DEF32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BBA-E4A2-4DEC-AC6B-E556AF39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3E00-1C4F-4C46-B889-5A69CD13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FC6B7-6AD2-417A-B783-93C9C496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F52C0-2C73-442C-87F7-5CA30912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F122-7F2A-47DA-876F-05387789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D0AFC-2F78-4D4F-9DA7-32852B78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F190-14FB-46D0-8DEF-B17B0F2E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8219-5752-477E-9C6E-23DBFCC21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69028-38F6-4408-B25C-A131559A1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B3C8-98D0-4CB9-AD82-8E63B83F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8875-3618-4EEA-95DC-2AF6B4AF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914-1A33-414B-B1CC-2DADB39D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7695E-A651-489A-9137-33457B77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D8BF-6131-4CF5-B029-B06200A1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7517F-B9AD-4F16-BF16-FAA77AFF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AEDD6-2687-4553-B341-20EC41EC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2AEE4-9BFA-4E98-86F7-0B68B87C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DBE4-7F51-4ABB-B3E4-BBAD56BD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0D856-0A39-4EF6-BE9F-02AF580B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1D22B-CF5A-4B59-94C3-A94D9BC8B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60C26-2E7C-4212-BE66-43D20975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88FF1-7FD6-4F43-BC2A-F6E84F30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70E-1AA1-41E4-ACDF-3301B08C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CA4D-3984-4AB2-B365-DE74254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EF228-BAAA-4C54-82F7-7C6ED770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C7DE8-BE85-4FCE-A7C2-544239CC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E45AA-8D1E-4081-AD60-8F3B8C90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8F86E-0381-4FE4-B875-53E1CB1B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0B84D-94C8-4FED-88A1-D614FD96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8CB26-5E65-4D97-9306-171A1D58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E5A3C-AAA0-49C9-8BAE-41D72580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336AB-D2E0-4DED-85F5-A9E303D6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8204E-6220-484A-A07A-8D825D36E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C1D-A5C9-4ADE-8885-5359EA0F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C7142-6D92-42EF-96CD-0E9710731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D97ED-F3C3-4A76-B6F1-32610886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557FF-387E-46D3-957D-5F06A853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E583F-AA3A-4003-8221-9DD88355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14736-1784-41D0-A822-8F35DB5F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8B315-0221-4D6A-99F0-612DD963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1DE36-2CA7-4814-9D64-B09B7277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F5009-D79D-4C60-827A-7F69F302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B5CDE-9A1F-4013-8C30-CDD2778A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76A4B-47CF-4836-BFEA-42BCBF5B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ED9-F603-4405-B207-DDE7002B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E79A4-EFE1-425B-B83A-D09AAF14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1AD6D-23C3-408E-82C1-AFCC150A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7E8D5-465F-4BC2-B0C0-8B9755F5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96A11-FA93-42BD-8BCC-7BD34A8A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8E8EC-8C17-4FF6-BF77-57849396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3A4E-3EB3-40DC-90B1-44368BE4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C499-E4A2-4E47-8F5C-EC6D86AD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E976A-60D7-4A70-A933-DA9BB0E9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D8E17-5025-4F77-8298-716576B9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98868-20AD-4794-9247-87C9616F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EB8-51E4-40A3-9B7D-8485C7B5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464E8-5AB1-491D-A469-8477E0DC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AC75F-D0C4-4AC7-ADD8-5CE486BE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C40C1-73A3-4540-8692-632902F2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DD240-4D9A-46E9-8640-15B904E6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BB63E-59EE-4E37-B6DE-E5743350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30312-A8DD-46E3-B095-EAEF06D1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C38CCF-45C2-45F9-914D-F675214E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CA7BE-E5DE-4689-B109-C6D65CEA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228CE-939D-4036-B808-F6C38A4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FC972-140E-41E1-A1E5-B12491F0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E54-2D4D-4EB8-B9BF-69E931F7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8C428-D8E2-4B26-A820-2112874E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869C0-0841-47F3-94B0-C1CC509A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1B838-C294-4BE8-B10B-256B57E3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E7D12-C465-4FA1-8D85-4767FB3B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3F1F8-D014-4F99-89D6-086802A3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61810-6F39-48EF-BDC4-7E03C4AB4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AF75F-05FB-405D-B840-094DBECB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CC9311-459A-4E79-A2F0-789FD1BD8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25313-46D4-450D-A601-0DD9E44A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AC949D-AFED-433D-B5FF-18C9404C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3756-3456-4E04-8822-6F3C058B3948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2625-37CF-414B-8EC2-CA309C1A11E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E95D-680C-4077-BDFC-50211A001C1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A11A-6616-4C4D-B539-4B6102EA50AC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74EE-55C9-40FD-819C-798C546AC6A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314F-CA6D-4F2A-8296-84CFD1AAEFCD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8516-3C12-4F35-9C7C-4C1FCA5C432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C5A1-BB5E-4B20-81B2-09306AE31536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04B7-96D3-4376-B0E6-23A63692862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ABDB-902B-47DC-A2A3-09E1E28819A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C0A5-31EF-42A8-94E3-63518B161597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EDEB-EAF8-4349-8FBF-2ED4A288A80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5B48-3465-448E-87E6-DB1085F28AD9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4128-C860-4FD4-998F-4B5E6168249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DF36-C108-4F58-8C7B-ED57D97D231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6E53-B17D-4270-B827-A4CFC493331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654A-6361-40B1-A8D4-FD06A1A9AB8A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CEFD-9883-41AD-8B2B-CD90953FC80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DD78-448E-4F57-9812-C81E5118D442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C85B-1229-4556-9DB8-B00ADC5627F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55A7-19AC-491A-A98B-3CF0FDF29D6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6E47-B05F-4411-BE6F-1CC30E90DFE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63BB-C873-4738-82E7-78A38151338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76CD-BBCA-45DE-9E6B-02EE7A1716F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749D-A2D8-468E-8441-64DF8E84A0D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5BAE-631D-4118-9EB9-CB4978189038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165E-CD24-4DE0-A303-E205973837C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6FC1-2AF1-4D43-A65B-E87C4DE6B45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0" i="1" lang="ru-RU" sz="3200" spc="-1" strike="noStrike">
                <a:solidFill>
                  <a:srgbClr val="d16349"/>
                </a:solidFill>
                <a:latin typeface="Georgia"/>
              </a:rPr>
              <a:t>Психология и педагогика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Прямоугольник 2"/>
          <p:cNvSpPr/>
          <p:nvPr/>
        </p:nvSpPr>
        <p:spPr>
          <a:xfrm>
            <a:off x="1357200" y="271476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Прямоугольник 3"/>
          <p:cNvSpPr/>
          <p:nvPr/>
        </p:nvSpPr>
        <p:spPr>
          <a:xfrm>
            <a:off x="2468520" y="3286080"/>
            <a:ext cx="64612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Лектор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пова Людмила Льв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Кафедра социологии, психологии и права, 302 ауд. 19 кор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СНОВНЫЕ</a:t>
            </a:r>
            <a:r>
              <a:rPr b="1" i="1" lang="ru-RU" sz="49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1" i="1" lang="ru-RU" sz="3000" spc="-1" strike="noStrike">
                <a:solidFill>
                  <a:srgbClr val="003366"/>
                </a:solidFill>
                <a:latin typeface="Georgia"/>
              </a:rPr>
              <a:t>ОТРАСЛИ ПСИХОЛОГИИ</a:t>
            </a:r>
            <a:br>
              <a:rPr sz="4900"/>
            </a:b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Прямоугольник 2"/>
          <p:cNvSpPr/>
          <p:nvPr/>
        </p:nvSpPr>
        <p:spPr>
          <a:xfrm>
            <a:off x="357120" y="1714680"/>
            <a:ext cx="85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настоящее время психология представляет собой весьма разветвленную систему нау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х в свою очередь можно разделить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ундаментальные и приклад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щие и специаль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905120" y="304920"/>
            <a:ext cx="4967280" cy="94716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СПЕЦИАЛЬНЫЕ ОТРА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          </a:t>
            </a:r>
            <a:r>
              <a:rPr b="0" i="1" lang="ru-RU" sz="2800" spc="-1" strike="noStrike">
                <a:solidFill>
                  <a:srgbClr val="231f1c"/>
                </a:solidFill>
                <a:latin typeface="Georgia"/>
              </a:rPr>
              <a:t>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214920" y="1752480"/>
            <a:ext cx="202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ГЕНЕ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228600" y="2209680"/>
            <a:ext cx="2914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ФИЗ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(НЕЙРОПСИХОЛОГ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200880" y="2971800"/>
            <a:ext cx="2841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ДИФФЕРЕНЦИАЛЬНАЯ</a:t>
            </a:r>
            <a:r>
              <a:rPr b="0" lang="ru-RU" sz="1800" spc="-1" strike="noStrike">
                <a:solidFill>
                  <a:srgbClr val="c5d1d7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202680" y="3505320"/>
            <a:ext cx="170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ВОЗРА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20320" y="3962520"/>
            <a:ext cx="179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СОЦИ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8"/>
          <p:cNvSpPr/>
          <p:nvPr/>
        </p:nvSpPr>
        <p:spPr>
          <a:xfrm>
            <a:off x="220680" y="4495680"/>
            <a:ext cx="2346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ЕДАГ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9"/>
          <p:cNvSpPr/>
          <p:nvPr/>
        </p:nvSpPr>
        <p:spPr>
          <a:xfrm>
            <a:off x="5748120" y="1752480"/>
            <a:ext cx="2024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1"/>
          <p:cNvSpPr/>
          <p:nvPr/>
        </p:nvSpPr>
        <p:spPr>
          <a:xfrm>
            <a:off x="5782680" y="2362320"/>
            <a:ext cx="243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2"/>
          <p:cNvSpPr/>
          <p:nvPr/>
        </p:nvSpPr>
        <p:spPr>
          <a:xfrm>
            <a:off x="5755320" y="2895480"/>
            <a:ext cx="2003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ЮРИД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3"/>
          <p:cNvSpPr/>
          <p:nvPr/>
        </p:nvSpPr>
        <p:spPr>
          <a:xfrm>
            <a:off x="5776560" y="3429000"/>
            <a:ext cx="2760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14"/>
          <p:cNvSpPr/>
          <p:nvPr/>
        </p:nvSpPr>
        <p:spPr>
          <a:xfrm>
            <a:off x="5765760" y="3962520"/>
            <a:ext cx="2085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3"/>
          <p:cNvSpPr/>
          <p:nvPr/>
        </p:nvSpPr>
        <p:spPr>
          <a:xfrm>
            <a:off x="2209680" y="304920"/>
            <a:ext cx="4719600" cy="5205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1f1c"/>
                </a:solidFill>
                <a:latin typeface="Georgia"/>
              </a:rPr>
              <a:t>ОТРАСЛИ ПСИХ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365040" y="1714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360000" y="1752480"/>
            <a:ext cx="2024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3021120" y="1752480"/>
            <a:ext cx="2431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АТО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7"/>
          <p:cNvSpPr/>
          <p:nvPr/>
        </p:nvSpPr>
        <p:spPr>
          <a:xfrm>
            <a:off x="6143760" y="1752480"/>
            <a:ext cx="208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ПСИХОТЕРА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8"/>
          <p:cNvSpPr/>
          <p:nvPr/>
        </p:nvSpPr>
        <p:spPr>
          <a:xfrm flipH="1">
            <a:off x="1752480" y="8380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9"/>
          <p:cNvSpPr/>
          <p:nvPr/>
        </p:nvSpPr>
        <p:spPr>
          <a:xfrm>
            <a:off x="4495680" y="838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0"/>
          <p:cNvSpPr/>
          <p:nvPr/>
        </p:nvSpPr>
        <p:spPr>
          <a:xfrm>
            <a:off x="4495680" y="838080"/>
            <a:ext cx="2590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428760" y="2571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Каждая из них имеют дело с отклонениями от нормы в псих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231f1c"/>
                </a:solidFill>
                <a:latin typeface="Georgia"/>
              </a:rPr>
              <a:t>и поведени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642960" y="3714840"/>
            <a:ext cx="85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Задача этих отраслей психологической науки – объяс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чины возможных психологических нарушений и обосно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методы их предупреждения и 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220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ческая педагог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бласть психологической науки, которая изучает психологические основы обучения, воспитания, педагогической деятельности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7"/>
          <p:cNvSpPr/>
          <p:nvPr/>
        </p:nvSpPr>
        <p:spPr>
          <a:xfrm>
            <a:off x="1712160" y="355680"/>
            <a:ext cx="593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Основные типы явлений, котор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46b86"/>
                </a:solidFill>
                <a:latin typeface="Georgia"/>
              </a:rPr>
              <a:t>изучает общая психология</a:t>
            </a:r>
            <a:r>
              <a:rPr b="0" lang="ru-RU" sz="3200" spc="-1" strike="noStrike">
                <a:solidFill>
                  <a:srgbClr val="646b86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8"/>
          <p:cNvSpPr/>
          <p:nvPr/>
        </p:nvSpPr>
        <p:spPr>
          <a:xfrm>
            <a:off x="722160" y="1905120"/>
            <a:ext cx="146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9"/>
          <p:cNvSpPr/>
          <p:nvPr/>
        </p:nvSpPr>
        <p:spPr>
          <a:xfrm>
            <a:off x="3610080" y="1905120"/>
            <a:ext cx="159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10"/>
          <p:cNvSpPr/>
          <p:nvPr/>
        </p:nvSpPr>
        <p:spPr>
          <a:xfrm>
            <a:off x="6261480" y="1905120"/>
            <a:ext cx="1413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1"/>
          <p:cNvSpPr/>
          <p:nvPr/>
        </p:nvSpPr>
        <p:spPr>
          <a:xfrm>
            <a:off x="638640" y="3214800"/>
            <a:ext cx="25153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НДИВИД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12"/>
          <p:cNvSpPr/>
          <p:nvPr/>
        </p:nvSpPr>
        <p:spPr>
          <a:xfrm>
            <a:off x="6172200" y="320040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ГРУПП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3"/>
          <p:cNvSpPr/>
          <p:nvPr/>
        </p:nvSpPr>
        <p:spPr>
          <a:xfrm>
            <a:off x="914400" y="480060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УТРЕН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СИХИ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4"/>
          <p:cNvSpPr/>
          <p:nvPr/>
        </p:nvSpPr>
        <p:spPr>
          <a:xfrm>
            <a:off x="5410080" y="4800600"/>
            <a:ext cx="26067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Georgi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НЕШ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(ПОВЕДЕН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6"/>
          <p:cNvSpPr/>
          <p:nvPr/>
        </p:nvSpPr>
        <p:spPr>
          <a:xfrm flipH="1">
            <a:off x="6933960" y="228600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7"/>
          <p:cNvSpPr/>
          <p:nvPr/>
        </p:nvSpPr>
        <p:spPr>
          <a:xfrm flipH="1">
            <a:off x="2361960" y="228600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8"/>
          <p:cNvSpPr/>
          <p:nvPr/>
        </p:nvSpPr>
        <p:spPr>
          <a:xfrm flipH="1">
            <a:off x="2361960" y="228600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9"/>
          <p:cNvSpPr/>
          <p:nvPr/>
        </p:nvSpPr>
        <p:spPr>
          <a:xfrm>
            <a:off x="4419720" y="2286000"/>
            <a:ext cx="2514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20"/>
          <p:cNvSpPr/>
          <p:nvPr/>
        </p:nvSpPr>
        <p:spPr>
          <a:xfrm>
            <a:off x="1447920" y="22860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21"/>
          <p:cNvSpPr/>
          <p:nvPr/>
        </p:nvSpPr>
        <p:spPr>
          <a:xfrm>
            <a:off x="1447920" y="2286000"/>
            <a:ext cx="5410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198108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23"/>
          <p:cNvSpPr/>
          <p:nvPr/>
        </p:nvSpPr>
        <p:spPr>
          <a:xfrm>
            <a:off x="1981080" y="3581280"/>
            <a:ext cx="4572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24"/>
          <p:cNvSpPr/>
          <p:nvPr/>
        </p:nvSpPr>
        <p:spPr>
          <a:xfrm>
            <a:off x="71629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25"/>
          <p:cNvSpPr/>
          <p:nvPr/>
        </p:nvSpPr>
        <p:spPr>
          <a:xfrm flipH="1">
            <a:off x="2057400" y="3581280"/>
            <a:ext cx="51055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2590920" y="204840"/>
            <a:ext cx="91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"/>
          <p:cNvSpPr/>
          <p:nvPr/>
        </p:nvSpPr>
        <p:spPr>
          <a:xfrm>
            <a:off x="2739240" y="304920"/>
            <a:ext cx="37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ОБЩАЯ ПСИХОЛОГ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357120" y="1523880"/>
            <a:ext cx="514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ПОЗНАВАТЕЛЬ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РОЦЕ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228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ОЩУЩ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259920" y="2590920"/>
            <a:ext cx="17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СПРИ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7"/>
          <p:cNvSpPr/>
          <p:nvPr/>
        </p:nvSpPr>
        <p:spPr>
          <a:xfrm>
            <a:off x="231480" y="2971800"/>
            <a:ext cx="16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НИМ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8"/>
          <p:cNvSpPr/>
          <p:nvPr/>
        </p:nvSpPr>
        <p:spPr>
          <a:xfrm>
            <a:off x="252360" y="342900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9"/>
          <p:cNvSpPr/>
          <p:nvPr/>
        </p:nvSpPr>
        <p:spPr>
          <a:xfrm>
            <a:off x="254880" y="3809880"/>
            <a:ext cx="195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0"/>
          <p:cNvSpPr/>
          <p:nvPr/>
        </p:nvSpPr>
        <p:spPr>
          <a:xfrm>
            <a:off x="250560" y="426708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1"/>
          <p:cNvSpPr/>
          <p:nvPr/>
        </p:nvSpPr>
        <p:spPr>
          <a:xfrm>
            <a:off x="238680" y="4648320"/>
            <a:ext cx="88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Р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2"/>
          <p:cNvSpPr/>
          <p:nvPr/>
        </p:nvSpPr>
        <p:spPr>
          <a:xfrm>
            <a:off x="5849280" y="152388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Georgia"/>
              </a:rPr>
              <a:t>ПСИХОЛОГИЯ ЛИЧ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3"/>
          <p:cNvSpPr/>
          <p:nvPr/>
        </p:nvSpPr>
        <p:spPr>
          <a:xfrm>
            <a:off x="5784120" y="2195640"/>
            <a:ext cx="131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ЭМО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4"/>
          <p:cNvSpPr/>
          <p:nvPr/>
        </p:nvSpPr>
        <p:spPr>
          <a:xfrm>
            <a:off x="5829120" y="257652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5"/>
          <p:cNvSpPr/>
          <p:nvPr/>
        </p:nvSpPr>
        <p:spPr>
          <a:xfrm>
            <a:off x="5807880" y="2971800"/>
            <a:ext cx="17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МОТИВ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6"/>
          <p:cNvSpPr/>
          <p:nvPr/>
        </p:nvSpPr>
        <p:spPr>
          <a:xfrm>
            <a:off x="5819040" y="3429000"/>
            <a:ext cx="195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ТЕМПЕРА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17"/>
          <p:cNvSpPr/>
          <p:nvPr/>
        </p:nvSpPr>
        <p:spPr>
          <a:xfrm>
            <a:off x="5813640" y="3809880"/>
            <a:ext cx="142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ХАРАК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8"/>
          <p:cNvSpPr/>
          <p:nvPr/>
        </p:nvSpPr>
        <p:spPr>
          <a:xfrm>
            <a:off x="5807160" y="426708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Georgia"/>
              </a:rPr>
              <a:t>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Методы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 метод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ешне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вобод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андартизированное наблюдени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нутреннее 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монаблюдение, или интроспекция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ключенное наблюдение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ро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кет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ст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Прямоугольник 5"/>
          <p:cNvSpPr/>
          <p:nvPr/>
        </p:nvSpPr>
        <p:spPr>
          <a:xfrm>
            <a:off x="4786200" y="164304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ый мет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стествен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экспери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395280" y="428760"/>
            <a:ext cx="813744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етоды психологических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10"/>
          <p:cNvSpPr/>
          <p:nvPr/>
        </p:nvSpPr>
        <p:spPr>
          <a:xfrm>
            <a:off x="395280" y="2637000"/>
            <a:ext cx="1152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оронне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67"/>
          <p:cNvGrpSpPr/>
          <p:nvPr/>
        </p:nvGrpSpPr>
        <p:grpSpPr>
          <a:xfrm>
            <a:off x="395280" y="1844640"/>
            <a:ext cx="8497800" cy="432000"/>
            <a:chOff x="395280" y="1844640"/>
            <a:chExt cx="8497800" cy="432000"/>
          </a:xfrm>
        </p:grpSpPr>
        <p:sp>
          <p:nvSpPr>
            <p:cNvPr id="800" name="Rectangle 8"/>
            <p:cNvSpPr/>
            <p:nvPr/>
          </p:nvSpPr>
          <p:spPr>
            <a:xfrm>
              <a:off x="395280" y="1844640"/>
              <a:ext cx="136836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Наблюд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17"/>
            <p:cNvSpPr/>
            <p:nvPr/>
          </p:nvSpPr>
          <p:spPr>
            <a:xfrm>
              <a:off x="2124000" y="1844640"/>
              <a:ext cx="720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Опрос</a:t>
              </a:r>
              <a:r>
                <a:rPr b="0" lang="ru-RU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19"/>
            <p:cNvSpPr/>
            <p:nvPr/>
          </p:nvSpPr>
          <p:spPr>
            <a:xfrm>
              <a:off x="3851280" y="1844640"/>
              <a:ext cx="93672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Тес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0"/>
            <p:cNvSpPr/>
            <p:nvPr/>
          </p:nvSpPr>
          <p:spPr>
            <a:xfrm>
              <a:off x="5580000" y="1844640"/>
              <a:ext cx="129708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Эксперимен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21"/>
            <p:cNvSpPr/>
            <p:nvPr/>
          </p:nvSpPr>
          <p:spPr>
            <a:xfrm>
              <a:off x="7307280" y="1844640"/>
              <a:ext cx="1585800" cy="4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Georgia"/>
                </a:rPr>
                <a:t>Моделиров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Group 66"/>
          <p:cNvGrpSpPr/>
          <p:nvPr/>
        </p:nvGrpSpPr>
        <p:grpSpPr>
          <a:xfrm>
            <a:off x="755640" y="1484280"/>
            <a:ext cx="7488360" cy="360360"/>
            <a:chOff x="755640" y="1484280"/>
            <a:chExt cx="7488360" cy="360360"/>
          </a:xfrm>
        </p:grpSpPr>
        <p:sp>
          <p:nvSpPr>
            <p:cNvPr id="806" name="AutoShape 12"/>
            <p:cNvSpPr/>
            <p:nvPr/>
          </p:nvSpPr>
          <p:spPr>
            <a:xfrm>
              <a:off x="75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22"/>
            <p:cNvSpPr/>
            <p:nvPr/>
          </p:nvSpPr>
          <p:spPr>
            <a:xfrm>
              <a:off x="2195640" y="1484280"/>
              <a:ext cx="57600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AutoShape 23"/>
            <p:cNvSpPr/>
            <p:nvPr/>
          </p:nvSpPr>
          <p:spPr>
            <a:xfrm>
              <a:off x="3995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24"/>
            <p:cNvSpPr/>
            <p:nvPr/>
          </p:nvSpPr>
          <p:spPr>
            <a:xfrm>
              <a:off x="586728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25"/>
            <p:cNvSpPr/>
            <p:nvPr/>
          </p:nvSpPr>
          <p:spPr>
            <a:xfrm>
              <a:off x="7667640" y="1484280"/>
              <a:ext cx="576360" cy="3603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Rectangle 26"/>
          <p:cNvSpPr/>
          <p:nvPr/>
        </p:nvSpPr>
        <p:spPr>
          <a:xfrm>
            <a:off x="395280" y="5084640"/>
            <a:ext cx="1297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утреннее (самонаблюд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7"/>
          <p:cNvSpPr/>
          <p:nvPr/>
        </p:nvSpPr>
        <p:spPr>
          <a:xfrm>
            <a:off x="395280" y="3141720"/>
            <a:ext cx="1224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8"/>
          <p:cNvSpPr/>
          <p:nvPr/>
        </p:nvSpPr>
        <p:spPr>
          <a:xfrm>
            <a:off x="395280" y="5929200"/>
            <a:ext cx="129528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нешнее (со сторон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9"/>
          <p:cNvSpPr/>
          <p:nvPr/>
        </p:nvSpPr>
        <p:spPr>
          <a:xfrm>
            <a:off x="395280" y="3716280"/>
            <a:ext cx="1297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рова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0"/>
          <p:cNvSpPr/>
          <p:nvPr/>
        </p:nvSpPr>
        <p:spPr>
          <a:xfrm>
            <a:off x="395280" y="4437000"/>
            <a:ext cx="1297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Включ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31"/>
          <p:cNvSpPr/>
          <p:nvPr/>
        </p:nvSpPr>
        <p:spPr>
          <a:xfrm>
            <a:off x="1979640" y="2637000"/>
            <a:ext cx="1008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Уст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32"/>
          <p:cNvSpPr/>
          <p:nvPr/>
        </p:nvSpPr>
        <p:spPr>
          <a:xfrm>
            <a:off x="1908000" y="4308480"/>
            <a:ext cx="136692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тандартиз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рован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3"/>
          <p:cNvSpPr/>
          <p:nvPr/>
        </p:nvSpPr>
        <p:spPr>
          <a:xfrm>
            <a:off x="3635280" y="3213000"/>
            <a:ext cx="165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34"/>
          <p:cNvSpPr/>
          <p:nvPr/>
        </p:nvSpPr>
        <p:spPr>
          <a:xfrm>
            <a:off x="3635280" y="3789360"/>
            <a:ext cx="1584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ективный те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5"/>
          <p:cNvSpPr/>
          <p:nvPr/>
        </p:nvSpPr>
        <p:spPr>
          <a:xfrm>
            <a:off x="1835280" y="3211560"/>
            <a:ext cx="1296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исьм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36"/>
          <p:cNvSpPr/>
          <p:nvPr/>
        </p:nvSpPr>
        <p:spPr>
          <a:xfrm>
            <a:off x="1908000" y="3718080"/>
            <a:ext cx="115272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воб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7"/>
          <p:cNvSpPr/>
          <p:nvPr/>
        </p:nvSpPr>
        <p:spPr>
          <a:xfrm>
            <a:off x="3635280" y="2637000"/>
            <a:ext cx="1582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ст-опрос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38"/>
          <p:cNvSpPr/>
          <p:nvPr/>
        </p:nvSpPr>
        <p:spPr>
          <a:xfrm>
            <a:off x="5435640" y="2637000"/>
            <a:ext cx="1511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Есте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9"/>
          <p:cNvSpPr/>
          <p:nvPr/>
        </p:nvSpPr>
        <p:spPr>
          <a:xfrm>
            <a:off x="5435640" y="322272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аборатор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0"/>
          <p:cNvSpPr/>
          <p:nvPr/>
        </p:nvSpPr>
        <p:spPr>
          <a:xfrm>
            <a:off x="5943960" y="42202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1"/>
          <p:cNvSpPr/>
          <p:nvPr/>
        </p:nvSpPr>
        <p:spPr>
          <a:xfrm>
            <a:off x="7308720" y="264168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Математ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2"/>
          <p:cNvSpPr/>
          <p:nvPr/>
        </p:nvSpPr>
        <p:spPr>
          <a:xfrm>
            <a:off x="7308720" y="378936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Л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43"/>
          <p:cNvSpPr/>
          <p:nvPr/>
        </p:nvSpPr>
        <p:spPr>
          <a:xfrm>
            <a:off x="7308720" y="3213000"/>
            <a:ext cx="158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Техническ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44"/>
          <p:cNvSpPr/>
          <p:nvPr/>
        </p:nvSpPr>
        <p:spPr>
          <a:xfrm>
            <a:off x="7308720" y="4365720"/>
            <a:ext cx="165600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Кибернет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46"/>
          <p:cNvSpPr/>
          <p:nvPr/>
        </p:nvSpPr>
        <p:spPr>
          <a:xfrm>
            <a:off x="97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7"/>
          <p:cNvSpPr/>
          <p:nvPr/>
        </p:nvSpPr>
        <p:spPr>
          <a:xfrm flipH="1">
            <a:off x="971640" y="292428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8"/>
          <p:cNvSpPr/>
          <p:nvPr/>
        </p:nvSpPr>
        <p:spPr>
          <a:xfrm flipH="1">
            <a:off x="971640" y="349884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9"/>
          <p:cNvSpPr/>
          <p:nvPr/>
        </p:nvSpPr>
        <p:spPr>
          <a:xfrm flipH="1">
            <a:off x="971640" y="42195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0"/>
          <p:cNvSpPr/>
          <p:nvPr/>
        </p:nvSpPr>
        <p:spPr>
          <a:xfrm flipH="1">
            <a:off x="971640" y="486720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1"/>
          <p:cNvSpPr/>
          <p:nvPr/>
        </p:nvSpPr>
        <p:spPr>
          <a:xfrm flipH="1">
            <a:off x="971640" y="58039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2411280" y="2276640"/>
            <a:ext cx="7164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4"/>
          <p:cNvSpPr/>
          <p:nvPr/>
        </p:nvSpPr>
        <p:spPr>
          <a:xfrm flipH="1">
            <a:off x="2410560" y="2997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5"/>
          <p:cNvSpPr/>
          <p:nvPr/>
        </p:nvSpPr>
        <p:spPr>
          <a:xfrm flipH="1">
            <a:off x="2410560" y="34988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6"/>
          <p:cNvSpPr/>
          <p:nvPr/>
        </p:nvSpPr>
        <p:spPr>
          <a:xfrm flipH="1">
            <a:off x="2410560" y="407664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421164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58"/>
          <p:cNvSpPr/>
          <p:nvPr/>
        </p:nvSpPr>
        <p:spPr>
          <a:xfrm flipH="1">
            <a:off x="421164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9"/>
          <p:cNvSpPr/>
          <p:nvPr/>
        </p:nvSpPr>
        <p:spPr>
          <a:xfrm flipH="1">
            <a:off x="4212360" y="3573360"/>
            <a:ext cx="7164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615636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1"/>
          <p:cNvSpPr/>
          <p:nvPr/>
        </p:nvSpPr>
        <p:spPr>
          <a:xfrm flipH="1">
            <a:off x="615636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7956720" y="2276640"/>
            <a:ext cx="71280" cy="360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3"/>
          <p:cNvSpPr/>
          <p:nvPr/>
        </p:nvSpPr>
        <p:spPr>
          <a:xfrm flipH="1">
            <a:off x="7956720" y="2997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4"/>
          <p:cNvSpPr/>
          <p:nvPr/>
        </p:nvSpPr>
        <p:spPr>
          <a:xfrm flipH="1">
            <a:off x="7956720" y="357336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65"/>
          <p:cNvSpPr/>
          <p:nvPr/>
        </p:nvSpPr>
        <p:spPr>
          <a:xfrm flipH="1">
            <a:off x="7956720" y="4149720"/>
            <a:ext cx="71280" cy="21744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пределение педагогики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(от греческих слов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дитя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, в дословном переводе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айдагог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означает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товодитель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)  -наука, которая изучает закономерности, возникновение, функционирование процессов обучения и воспитания детей и взрослых в институтах их наиболее полного развит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ом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Древней Греции называли раба, который в буквальном смысле слова брал за руку ребенка своего господина и сопровождал его в школ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это наука о воспитании человека. В мировом педагогическом лексиконе употребляются новые термины –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др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мужчина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гогика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(от греч.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тропос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человек и «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го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» - вести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6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1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0000"/>
                </a:solidFill>
                <a:latin typeface="Times New Roman"/>
              </a:rPr>
              <a:t>Выписка из стандарта</a:t>
            </a:r>
            <a:endParaRPr b="0" lang="en-US" sz="4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14200" y="1527120"/>
            <a:ext cx="8591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сихология и педагогика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Психология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предмет, объект и методы психологии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есто психологии в системе наук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История развития психологического знания и основные направления в психологии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Индивид, личность, субъект, индивидуальность. Психика и организм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ика,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едение и деятельность. Основные функции психики. Развитие психики в процессе онтогенеза и филогенеза. Мозг и психика. Структура психики. Соотношение сознания и бессознательного.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Основные психические процессы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 Структура сознания. Познавательные процессы. Ощущение. Восприятие. Представление. Воображение. Мышление и интеллект. Творчество. Внимание. Мнемические процессы. Эмоции и чувства. Психическая регуляция поведения и деятельности. Общение и речь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Межличностные отношения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сихология малых групп.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Межгрупповые отнош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00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7b9899"/>
                </a:solidFill>
                <a:latin typeface="Georgia"/>
              </a:rPr>
              <a:t>Возникновение и развитие педагогики, ее представители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же в наиболее развитых государствах древнего мира –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ита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д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гипт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рец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– были предприняты попытки обобщения опыта воспитания. Все знания о природе, человеке, обществе аккумулировались тогда в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илософии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и в ней же были сделаны первые педагогические обобщ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250" autoRev="1" fill="hold"/>
                                        <p:tgtEl>
                                          <p:spTgt spid="8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2000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Колыбелью европейских систем воспитания стала древнегреческая философия:</a:t>
            </a:r>
            <a:br>
              <a:rPr sz="2500"/>
            </a:br>
            <a:br>
              <a:rPr sz="2200"/>
            </a:b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емокрит (460 – 370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крат (469 – з99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латон (427 – 347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ристотель (384 – 322 гг. до н.э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Марк Квинтилиан (35 -9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8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57120" y="1285920"/>
            <a:ext cx="840600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период средневековья церковь монополизировала духовную жизнь общества, направляя воспитание в религиозное русло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32144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ртулиан (160 – 222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вгустин (354 -43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квинат (1225 – 127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«Я – человек, и ничто человеческое мне не чуждо». – лозунг Эпохи Возрождения.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разм Роттердамский (1466 – 153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тторино де Фельтрэ (1378 – 1446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Франссуа Рабле (1494 -1553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Ян Амос Коменский (1592 1670 гг.)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делил педагогику из философии и оформил ее в научную систему!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жон Локк (1632 – 170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Д. Дидро (1713 – 178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. Гильвеций (1715 -177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 Гольбах (1723 – 178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Ж.Ж. Руссо (1712 – 1778 гг.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редставители русской педагогической мысли: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.Г. Белинский (1811 -1848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.И. Герцен (1812 – 187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Г. Чернышевский (1828 – 1889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.А. Добролюбов (1836 -1861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Л.Н. Толстой (1828 – 1910 гг.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260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.Д. Ушинский (1824 – 1871 гг.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Они выступили с резкой критикой сословной школы и призывами коренного преобразования дела народного восп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8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8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8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" y="1500120"/>
            <a:ext cx="8686800" cy="25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конц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IX -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начале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в. интенсивные исследования педагогических проблем  начаты в США, куда постепенно смещается центр педагогической мысли. Были сформулированы общие  принципы,  выделены закономерности воспитания, разработаны и внедрены эффективные технологии образования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4643280"/>
            <a:ext cx="8686800" cy="17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жон Дьюи (1859 – 1952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двард Торндайк (1874 – 1949 гг.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27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Русская педагогика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ослеоктябрьского периода пошла по пути разработки идей воспитания человека в новом обществ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01320" y="3142800"/>
            <a:ext cx="85042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.Т. Шацкий (1878 – 1934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.П. Блонский (1884 – 1941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П. Пинкевич (1884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Н.К. Крупская (1869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.С. Макаренко (1888 – 1939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.А. Сухомлинский (1918 – 1970 гг.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385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385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85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3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5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7" dur="385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385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385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385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5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7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9" dur="385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385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385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9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1" dur="385" fill="hold"/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щ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общие основ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идактика (теория обучения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теория воспитан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601"/>
              </a:spcBef>
              <a:buClr>
                <a:srgbClr val="d16349"/>
              </a:buClr>
              <a:buSzPct val="8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озрастная педагогик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дошкольная педагог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школьна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     Педагогика высшей: школы занимается педагогическими проблемами взрослых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8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8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8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8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8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8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истема педагогических наук.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4. Социальная педагогика: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семейная педагогика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перевоспитание правонарушителей 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               - и др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5. Сурдопедагогика – воспитание глухонемых и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6. Тифлопедагогика – воспитание слепых.</a:t>
            </a:r>
            <a:br>
              <a:rPr sz="2600"/>
            </a:b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7. Олигофренопедагогика – Воспитание умственно отсталых.</a:t>
            </a:r>
            <a:br>
              <a:rPr sz="2600"/>
            </a:br>
            <a:r>
              <a:rPr b="1" i="1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7b9899"/>
                </a:solidFill>
                <a:latin typeface="Georgia"/>
              </a:rPr>
              <a:t>Педагогика развивается в тесной связи с другими науками: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1. Философские науки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эстетик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науковед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- 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2. Анатом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3. Физи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4. Психологи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5. История, литература, медицина, экология, экономика, археология…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9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500"/>
                                        <p:tgtEl>
                                          <p:spTgt spid="8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8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ЫПИСКА ИЗ СТАНДАРТ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Педагогика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бъект, предмет, задачи, функции, методы педагогик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сновные категории педагогики: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, воспитание, обучение, педагогическая деятельность, педагогическое взаимодействие, педагогическая технология, педагогическая задача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как общечеловеческая ценность. Образование как социокультурный феномен и педагогический процесс. Образовательная система России. Цели, содержание, структура непрерывного образования, единство образования и самообразован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дагогический процесс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. Образовательная, воспитательная и развивающая функции обучения. Воспитание в педагогическом процессе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щие формы организации учебной деятельности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Урок, лекция, семинарские, практические и лабораторные занятия, диспут, конференция, зачет, экзамен, факультативные занятия, консультация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ы, приемы, средства организации и управления педагогическим процессом.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емья как субъект педагогического взаимодействия и социокультурная среда воспитания и развития личности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правление образовательными системами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200"/>
            </a:br>
            <a:br>
              <a:rPr sz="2200"/>
            </a:b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нтеграция наук привела к возникновению пограничных наук – педагогической психологии и психопедагогик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едагогика также находится на стыке точных и технических наук – кибернетическая, математическая, компьютерная педагогика, суггестология и д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едагогика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785880" y="2357280"/>
            <a:ext cx="714384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наука, изучающая закономерности воспитания, обучения и образования детей и взрослых в интересах их всестороннего развити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сновные категории педагогик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Развити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атегории педагогики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5" name="Rectangle 3"/>
          <p:cNvSpPr/>
          <p:nvPr/>
        </p:nvSpPr>
        <p:spPr>
          <a:xfrm>
            <a:off x="285840" y="2928960"/>
            <a:ext cx="1800000" cy="64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амос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6"/>
          <p:cNvSpPr/>
          <p:nvPr/>
        </p:nvSpPr>
        <p:spPr>
          <a:xfrm>
            <a:off x="2556000" y="1197000"/>
            <a:ext cx="23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7"/>
          <p:cNvSpPr/>
          <p:nvPr/>
        </p:nvSpPr>
        <p:spPr>
          <a:xfrm>
            <a:off x="2484360" y="494172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2484360" y="3500280"/>
            <a:ext cx="237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оспит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11"/>
          <p:cNvSpPr/>
          <p:nvPr/>
        </p:nvSpPr>
        <p:spPr>
          <a:xfrm>
            <a:off x="2484360" y="2133720"/>
            <a:ext cx="237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6516720" y="1197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м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23"/>
          <p:cNvSpPr/>
          <p:nvPr/>
        </p:nvSpPr>
        <p:spPr>
          <a:xfrm>
            <a:off x="4932360" y="1413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25"/>
          <p:cNvSpPr/>
          <p:nvPr/>
        </p:nvSpPr>
        <p:spPr>
          <a:xfrm>
            <a:off x="5815080" y="429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26"/>
          <p:cNvSpPr/>
          <p:nvPr/>
        </p:nvSpPr>
        <p:spPr>
          <a:xfrm>
            <a:off x="6516720" y="220500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27"/>
          <p:cNvSpPr/>
          <p:nvPr/>
        </p:nvSpPr>
        <p:spPr>
          <a:xfrm>
            <a:off x="6516720" y="2852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28"/>
          <p:cNvSpPr/>
          <p:nvPr/>
        </p:nvSpPr>
        <p:spPr>
          <a:xfrm>
            <a:off x="6516720" y="350028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ировоззр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29"/>
          <p:cNvSpPr/>
          <p:nvPr/>
        </p:nvSpPr>
        <p:spPr>
          <a:xfrm>
            <a:off x="6516720" y="4076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ве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30"/>
          <p:cNvSpPr/>
          <p:nvPr/>
        </p:nvSpPr>
        <p:spPr>
          <a:xfrm>
            <a:off x="6516720" y="458136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пода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31"/>
          <p:cNvSpPr/>
          <p:nvPr/>
        </p:nvSpPr>
        <p:spPr>
          <a:xfrm>
            <a:off x="6516720" y="5300640"/>
            <a:ext cx="237636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32"/>
          <p:cNvSpPr/>
          <p:nvPr/>
        </p:nvSpPr>
        <p:spPr>
          <a:xfrm>
            <a:off x="5796000" y="306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33"/>
          <p:cNvSpPr/>
          <p:nvPr/>
        </p:nvSpPr>
        <p:spPr>
          <a:xfrm>
            <a:off x="5796000" y="3068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34"/>
          <p:cNvSpPr/>
          <p:nvPr/>
        </p:nvSpPr>
        <p:spPr>
          <a:xfrm flipV="1">
            <a:off x="4859280" y="4797360"/>
            <a:ext cx="1657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35"/>
          <p:cNvSpPr/>
          <p:nvPr/>
        </p:nvSpPr>
        <p:spPr>
          <a:xfrm>
            <a:off x="4859280" y="5084640"/>
            <a:ext cx="16574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36"/>
          <p:cNvSpPr/>
          <p:nvPr/>
        </p:nvSpPr>
        <p:spPr>
          <a:xfrm>
            <a:off x="4859280" y="371628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37"/>
          <p:cNvSpPr/>
          <p:nvPr/>
        </p:nvSpPr>
        <p:spPr>
          <a:xfrm flipH="1">
            <a:off x="4859280" y="234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38"/>
          <p:cNvSpPr/>
          <p:nvPr/>
        </p:nvSpPr>
        <p:spPr>
          <a:xfrm>
            <a:off x="190800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39"/>
          <p:cNvSpPr/>
          <p:nvPr/>
        </p:nvSpPr>
        <p:spPr>
          <a:xfrm>
            <a:off x="2124000" y="141300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40"/>
          <p:cNvSpPr/>
          <p:nvPr/>
        </p:nvSpPr>
        <p:spPr>
          <a:xfrm>
            <a:off x="2124000" y="51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41"/>
          <p:cNvSpPr/>
          <p:nvPr/>
        </p:nvSpPr>
        <p:spPr>
          <a:xfrm>
            <a:off x="212400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212400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43"/>
          <p:cNvSpPr/>
          <p:nvPr/>
        </p:nvSpPr>
        <p:spPr>
          <a:xfrm>
            <a:off x="2124000" y="141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–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7b9899"/>
                </a:solidFill>
                <a:latin typeface="Georgia"/>
              </a:rPr>
              <a:t>Обучение</a:t>
            </a:r>
            <a:r>
              <a:rPr b="0" lang="ru-RU" sz="3600" spc="-1" strike="noStrike">
                <a:solidFill>
                  <a:srgbClr val="7b9899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специально организованный, целеполагаемый, управляемый процесс взаимодействия учителей и учащихся, направленный на усвоение знаний, умений, навыков, формирование мировоззрения, развитие умственных сил, потенциальных возможностей обучаемых, закрепление навыков самообразования в соответствии с поставленными целями.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-457200" y="-8872200"/>
            <a:ext cx="457200" cy="88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218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нания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тражения человеком объективной  деятельности в форме фактов, представлений, понят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мения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готовность сознательно 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амостоятельно  выполнять практические и теоретические действия на основе усвоенных знаний, жизненного опы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авыки –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компоненты практической деятельности  проявляющееся при  выполнении необходимых действ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Образование-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это объем систематизированных  знаний, умений, навыков, которыми овладел обучаемы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ие – результат обучения. В буквальном смысле оно означает формирование образов, законченных представлений об изучаемых предметах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PS: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разованным принято называть человека, который  овладел определенным объемом систематизированных зна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Воспитан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это целенаправленный и организационный процесс формирования личност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-256320">
              <a:spcBef>
                <a:spcPts val="499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1)в широком смысле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Цель воспитания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– это то, к чему стремится воспитание, будущее, на достижение  которого направляются усили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b9899"/>
                </a:solidFill>
                <a:latin typeface="Georgia"/>
              </a:rPr>
              <a:t>Формирован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7b9899"/>
                </a:solidFill>
                <a:latin typeface="Georgia"/>
              </a:rPr>
              <a:t>Развити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то процесс количественных и качественных изменений в организме человек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зультат развития – становление человека как биологического вида и как социального существа. Социальное развитие находит выражение, в психологическом, духовном, интеллектуальном рост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799308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ПСИХОЛОГИЯ И ПЕДАГОГИКА</a:t>
            </a:r>
            <a:br>
              <a:rPr sz="2800"/>
            </a:br>
            <a:r>
              <a:rPr b="0" lang="ru-RU" sz="2800" spc="-1" strike="noStrike">
                <a:solidFill>
                  <a:srgbClr val="d16349"/>
                </a:solidFill>
                <a:latin typeface="Georgia"/>
              </a:rPr>
              <a:t>литератур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356760" y="2500200"/>
            <a:ext cx="835812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1.ПСИХОЛОГИЯ И ПЕДАГОГИКА: УЧЕБНОЕ ПОСОБИЕ / ПОД РЕД. А.А. РАДУГИНА. – М.: ЦЕНТР,2002. – 256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2. РЕАН А.А., БОРДОВСКАЯ Н.В., РОЗУМ С.И. ПСИХОЛОГИЯ И ПЕДАГОГИКА: УЧЕБНИК ДЛЯ ВУЗОВ. – СПБ.: ПИТЕР, 2000. –  432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3. ПСИХОЛОГИЯ И ПЕДАГОГИКА: УЧЕБНОЕ ПОСОБИЕ. – ТОМСК: ИЗД-ВО ТПУ, 2009. – 80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e0c0b"/>
                </a:solidFill>
                <a:latin typeface="Times New Roman"/>
                <a:ea typeface="Times New Roman"/>
              </a:rPr>
              <a:t>4. ПСИХОЛОГИЯ. УЧЕБНИК ДЛЯ ТЕХНИЧЕСКИХ ВУЗОВ / ПОД ОБЩ. РЕД. В.Н. ДРУЖИНИНА. – СПБ.: ПИТЕР, 2000. – 608 С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1835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Методы педагогики</a:t>
            </a:r>
            <a:endParaRPr b="0" lang="en-US" sz="2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следовательская беседа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школьной документации и продуктов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зучение и обобщение передового педагогического опыта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едагогическое наблюдение применяется в любой исследовательской деятельности. Наблюдение - основной источник накопления фактов и сведени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едагогический эксперимент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это метод исследования, ориентированный на подтверждение или отрицание.  Каких-либо теоретических выкладок опытным путем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зависимости от имеющихся целей различают следующие виды экспериментов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атир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созидательно-преобразующи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трольный;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естественный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b9899"/>
                </a:solidFill>
                <a:latin typeface="Georgia"/>
              </a:rPr>
              <a:t>Словарь: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80880" y="1571400"/>
            <a:ext cx="830592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Воспитание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– целенаправленный и организационный процесс формирования личности.1)в широком смысле В – это передача накопленного опыта от старших поколений к младшим (под опытом понимается известные людям знания, умения, способы мышления, нравственные, этические, правовые нормы – словом, все созданное в процессе развития духовное наследие человечества); 2)в узком социальном смысле под воспитанием понимается направленное воздействие на человека со стороны общественных институтов  с целью формирования у него определенных знаний, взглядов, убеждений, нравственных ценностей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Обуче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специально организованный, целенаправленный и управляемый процесс взаимодействия учителя и ученика, направленный на усвоение  знаний, умений, навыков и т.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процесс становления человека как социального существа под воздействием всех без исключения факторов – экологических, социальных, экономических, психологических, …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– это процесс и результат количественных и качественных изменений в организме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7b9899"/>
                </a:solidFill>
                <a:latin typeface="Georgia"/>
              </a:rPr>
              <a:t>Лекция окончена</a:t>
            </a:r>
            <a:endParaRPr b="0" lang="en-US" sz="8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457200" y="274680"/>
            <a:ext cx="8229600" cy="58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Прямоугольник 2"/>
          <p:cNvSpPr/>
          <p:nvPr/>
        </p:nvSpPr>
        <p:spPr>
          <a:xfrm>
            <a:off x="714240" y="500040"/>
            <a:ext cx="7715520" cy="58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5. Психология. Полный энциклопедический справочник / Сост. и общ. ред. Б. Г. Мещерякова, В. П. Зинченко. – СПб.: Прайм-Еврознак, 2007. – 896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6. Современный словарь по психологии. А-Я / Авт.-сост. В.В. Юрчук.. – Минск: Элайда, 2000. – 704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7. Полонский В.М. Словарь по образованию и педагогике. – М.: Высшая школа, 2004. – 512 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8. Словарь по социальной педагогике: учебное пособие / Сост. Л.В. Мардахаев. – М.: Академия, 2002. – 366 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Georgia"/>
              </a:rPr>
              <a:t>ПСИХОЛОГИЯ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928800" y="3143160"/>
            <a:ext cx="68580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СИХОЛОГИЯ (ГРЕЧ. </a:t>
            </a:r>
            <a:r>
              <a:rPr b="1" lang="el-GR" sz="2000" spc="-1" strike="noStrike">
                <a:solidFill>
                  <a:srgbClr val="000000"/>
                </a:solidFill>
                <a:latin typeface="Georgia"/>
              </a:rPr>
              <a:t>ΨΥΧΗ —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УША И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ОГОС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— НАУКА) — НАУКА О ЗАКОНОМЕРНОСТЯХ РАЗВИТИЯ И ФУНКЦИОНИРОВАНИЯ ПСИХИКИ. (НАУКА, ИЗУЧАЮЩАЯ ПРОЦЕССЫ И ЗАКОНОМЕРНОСТИ ПСИХИЧЕСКОЙ ДЕЯТЕЛЬНОСТИ.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олог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«Специфический круг явлений, который изучает психология, выделяется отчетливо и ясно, - это наши восприятия, чувства, мысли, стремления, намерения, желания…,- то есть все то, что составляет внутреннее содержание нашей жизни и что в качестве переживания как будто непосредственно нам дано…».        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.Л. Рубинштейн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сихи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войство головного мозга, обеспечивающее человеку и животным способность отражать воздействия предметов и явлений реального мира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Объект психологии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1" name="Прямоугольник 2"/>
          <p:cNvSpPr/>
          <p:nvPr/>
        </p:nvSpPr>
        <p:spPr>
          <a:xfrm>
            <a:off x="1571760" y="2000160"/>
            <a:ext cx="52862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психически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индив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- общ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7:28:49Z</dcterms:created>
  <dc:creator>Милена</dc:creator>
  <dc:description/>
  <dc:language>en-US</dc:language>
  <cp:lastModifiedBy>LEGION</cp:lastModifiedBy>
  <dcterms:modified xsi:type="dcterms:W3CDTF">2014-11-12T07:36:51Z</dcterms:modified>
  <cp:revision>163</cp:revision>
  <dc:subject/>
  <dc:title>Слайд 1</dc:title>
</cp:coreProperties>
</file>